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32B-C131-4A21-ACEC-5254FBE7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Много потребители прекарват продължително време пред компютъра, вследствие на което се налага съсредоточаване на вниманието към опазването на здравето на човека и прилагането на определени здравни норми с це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намаляване на умора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намаляване на  рисковите повтарящи се дей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- преодоляване опасностите от възникването на различни заболявания - ставни, раменни, шийни, очни и др.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Прилагането на основните здравни норми в ежедневието води до повишаване на работоспособност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Както за всяка професия, и при продължителна работа с компютър са разработени </a:t>
            </a:r>
            <a:r>
              <a:rPr b="1" lang="bg-BG" sz="1200" spc="-1" strike="noStrike">
                <a:solidFill>
                  <a:srgbClr val="993366"/>
                </a:solidFill>
                <a:latin typeface="Times New Roman"/>
              </a:rPr>
              <a:t>ергономични принципи</a:t>
            </a: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bg-BG" sz="1200" spc="-1" strike="noStrike">
                <a:solidFill>
                  <a:srgbClr val="993366"/>
                </a:solidFill>
                <a:latin typeface="Times New Roman"/>
              </a:rPr>
              <a:t>и препоръки</a:t>
            </a:r>
            <a:r>
              <a:rPr b="0" lang="bg-BG" sz="1200" spc="-1" strike="noStrike">
                <a:solidFill>
                  <a:srgbClr val="993366"/>
                </a:solidFill>
                <a:latin typeface="Times New Roman"/>
              </a:rPr>
              <a:t> за осигуряване на удобно работно място: стол, бюро, работна поза /40 мин. активна работа и 15 мин. почивка/, монитор, осветление, клавиатура, мишка, както и допълнителни устройства за създаване на комфорт в 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Най-важното условие което трябва да се спазва, за да имате добър образ на монитора е - той да бъде поставен правилно и да бъде добре почистен. Текстът на екрана трябва да се чете лесно, а това се установява чрез намаляване на отблясъците /със защитен филтър/ и с подходящи системни настрой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големина и цвят на тек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 намалена ярко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увеличен контраст на изображениет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екранът не трябва да треп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- използването на софтуер с лек интерфейс, така че иконите, менютата и командите да са лесно различ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Клавиатурата е едно от най-често използването устройства при работа с компютър. Разполага с достатъчно дълъг кабел, за да мести с цел удобство при раб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Трябва да се пази от разливане на течности около и върху нея, поради възможности от повре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Мишката е също е едно от най-често използваните устройства за работа с графичен потребителски интерфейс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Правилния захват е показан схематично на страница 52 в учебни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Основния управляващ бутон е левият, а ако потребителят е левичар, то мястото на мишката се сменя / отляво на клавиатурата/ и съответно се променя предназначението на десния бутон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Предпочитат се мишки със скролер / движещо се топче върху самата мишка/, който създава удобство при работа в Интернет и изобщо за предвижване по документи с голямо съдържани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Ако се работи нощно време - да не се разчита само на светлината от монитора, а задължително да има допълнително освет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1B8-A541-4A84-B6DA-585397F2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2F8-6CEE-46DE-B62F-AADE7AA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C23-D33C-4FFB-BC7B-1DFDECA2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CCF-8040-4219-9941-7BFD0FF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047-C3F8-4D5D-828C-A0B094A2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F4B-1429-49FF-94AA-362517AB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C5E3-62E5-4103-8A6C-3875493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40BC-4942-437E-A7BB-C11F045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214B-0AAF-4E7D-A649-47745CB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78DD-2850-4B63-B0C9-6E6836F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3A9-2DA5-4358-ABDE-C91A631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7E9-06ED-4C17-8EE6-CFC46485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9925-9B06-4C29-9A09-D31B759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241-9828-4BBC-B9DE-CFC700E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5470-10CD-45C9-88AF-C1B1B85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E663-EBF1-427A-8A25-339BBD28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C9BE-236C-4CEE-9AE2-CA0B4F15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253-0FF9-40C4-B105-776A1C0A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171-EAEF-4D02-8DA0-E65F093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354-2B46-45D5-96F7-DDD1F9F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4FC-E18F-4B75-AE9E-CF00DA32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B34-1B19-4E1A-91C8-84473701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2F5-7A7E-4001-9D91-7CCEC41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7EA-B180-419D-B662-EC928FD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768-CD28-4B73-A275-3BFCA1A4B19C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9069-5E77-439E-88D2-E5E47B757FFF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80773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ЗДРАВНИ</a:t>
            </a:r>
            <a:r>
              <a:rPr b="1" lang="en-US" sz="4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НОРМИ </a:t>
            </a:r>
            <a:br>
              <a:rPr sz="4400"/>
            </a:br>
            <a:r>
              <a:rPr b="1" lang="bg-BG" sz="4400" spc="-1" strike="noStrike">
                <a:solidFill>
                  <a:srgbClr val="f1b60f"/>
                </a:solidFill>
                <a:latin typeface="Arial"/>
              </a:rPr>
              <a:t>ПРИ РАБОТА С КОМПЮТЪР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843280" y="5877000"/>
            <a:ext cx="3673440" cy="720720"/>
          </a:xfrm>
          <a:custGeom>
            <a:avLst/>
            <a:gdLst>
              <a:gd name="textAreaLeft" fmla="*/ 46440 w 3673440"/>
              <a:gd name="textAreaRight" fmla="*/ 3627000 w 3673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0049" h="21600">
                <a:moveTo>
                  <a:pt x="0" y="0"/>
                </a:moveTo>
                <a:lnTo>
                  <a:pt x="110049" y="0"/>
                </a:lnTo>
                <a:lnTo>
                  <a:pt x="110049" y="21600"/>
                </a:lnTo>
                <a:lnTo>
                  <a:pt x="0" y="21600"/>
                </a:lnTo>
                <a:close/>
              </a:path>
              <a:path fill="lightenLess" w="110049" h="21600">
                <a:moveTo>
                  <a:pt x="0" y="0"/>
                </a:moveTo>
                <a:lnTo>
                  <a:pt x="110049" y="0"/>
                </a:lnTo>
                <a:lnTo>
                  <a:pt x="108649" y="1400"/>
                </a:lnTo>
                <a:lnTo>
                  <a:pt x="1400" y="1400"/>
                </a:lnTo>
                <a:close/>
              </a:path>
              <a:path fill="darken" w="110049" h="21600">
                <a:moveTo>
                  <a:pt x="110049" y="0"/>
                </a:moveTo>
                <a:lnTo>
                  <a:pt x="110049" y="21600"/>
                </a:lnTo>
                <a:lnTo>
                  <a:pt x="108649" y="20200"/>
                </a:lnTo>
                <a:lnTo>
                  <a:pt x="108649" y="1400"/>
                </a:lnTo>
                <a:close/>
              </a:path>
              <a:path fill="darkenLess" w="110049" h="21600">
                <a:moveTo>
                  <a:pt x="110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649" y="20200"/>
                </a:lnTo>
                <a:close/>
              </a:path>
              <a:path fill="lighten" w="110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НАПРЕД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1b60f"/>
                </a:solidFill>
                <a:latin typeface="Arial"/>
              </a:rPr>
              <a:t>Изберете информация за: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1042920" y="213372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СТОЛ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1042920" y="357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БЮРО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1042920" y="5013360"/>
            <a:ext cx="2665440" cy="86508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66534" h="21600">
                <a:moveTo>
                  <a:pt x="0" y="0"/>
                </a:moveTo>
                <a:lnTo>
                  <a:pt x="66534" y="0"/>
                </a:lnTo>
                <a:lnTo>
                  <a:pt x="66534" y="21600"/>
                </a:lnTo>
                <a:lnTo>
                  <a:pt x="0" y="21600"/>
                </a:lnTo>
                <a:close/>
              </a:path>
              <a:path fill="lightenLess" w="66534" h="21600">
                <a:moveTo>
                  <a:pt x="0" y="0"/>
                </a:moveTo>
                <a:lnTo>
                  <a:pt x="66534" y="0"/>
                </a:lnTo>
                <a:lnTo>
                  <a:pt x="65134" y="1400"/>
                </a:lnTo>
                <a:lnTo>
                  <a:pt x="1400" y="1400"/>
                </a:lnTo>
                <a:close/>
              </a:path>
              <a:path fill="darken" w="66534" h="21600">
                <a:moveTo>
                  <a:pt x="66534" y="0"/>
                </a:moveTo>
                <a:lnTo>
                  <a:pt x="66534" y="21600"/>
                </a:lnTo>
                <a:lnTo>
                  <a:pt x="65134" y="20200"/>
                </a:lnTo>
                <a:lnTo>
                  <a:pt x="65134" y="1400"/>
                </a:lnTo>
                <a:close/>
              </a:path>
              <a:path fill="darkenLess" w="66534" h="21600">
                <a:moveTo>
                  <a:pt x="66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34" y="20200"/>
                </a:lnTo>
                <a:close/>
              </a:path>
              <a:path fill="lighten" w="66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5076720" y="213372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5076720" y="357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Arial"/>
              </a:rPr>
              <a:t>МИШК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5076720" y="5013360"/>
            <a:ext cx="2665440" cy="863640"/>
          </a:xfrm>
          <a:custGeom>
            <a:avLst/>
            <a:gdLst>
              <a:gd name="textAreaLeft" fmla="*/ 55800 w 2665440"/>
              <a:gd name="textAreaRight" fmla="*/ 2609640 w 266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6645" h="21600">
                <a:moveTo>
                  <a:pt x="0" y="0"/>
                </a:moveTo>
                <a:lnTo>
                  <a:pt x="66645" y="0"/>
                </a:lnTo>
                <a:lnTo>
                  <a:pt x="66645" y="21600"/>
                </a:lnTo>
                <a:lnTo>
                  <a:pt x="0" y="21600"/>
                </a:lnTo>
                <a:close/>
              </a:path>
              <a:path fill="lightenLess" w="66645" h="21600">
                <a:moveTo>
                  <a:pt x="0" y="0"/>
                </a:moveTo>
                <a:lnTo>
                  <a:pt x="66645" y="0"/>
                </a:lnTo>
                <a:lnTo>
                  <a:pt x="65245" y="1400"/>
                </a:lnTo>
                <a:lnTo>
                  <a:pt x="1400" y="1400"/>
                </a:lnTo>
                <a:close/>
              </a:path>
              <a:path fill="darken" w="66645" h="21600">
                <a:moveTo>
                  <a:pt x="66645" y="0"/>
                </a:moveTo>
                <a:lnTo>
                  <a:pt x="66645" y="21600"/>
                </a:lnTo>
                <a:lnTo>
                  <a:pt x="65245" y="20200"/>
                </a:lnTo>
                <a:lnTo>
                  <a:pt x="65245" y="1400"/>
                </a:lnTo>
                <a:close/>
              </a:path>
              <a:path fill="darkenLess" w="66645" h="21600">
                <a:moveTo>
                  <a:pt x="6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5" y="20200"/>
                </a:lnTo>
                <a:close/>
              </a:path>
              <a:path fill="lighten" w="6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ОСВЕТЛ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СТОЛЪТ</a:t>
            </a:r>
            <a:r>
              <a:rPr b="0" lang="bg-BG" sz="4200" spc="-1" strike="noStrike">
                <a:solidFill>
                  <a:srgbClr val="f1b60f"/>
                </a:solidFill>
                <a:latin typeface="Arial"/>
              </a:rPr>
              <a:t> - осигурява удобна стойка пред компютър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5280" y="2133720"/>
            <a:ext cx="514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5 колелца за стабилна основ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раката да са стъпили на земята, </a:t>
            </a:r>
            <a:br>
              <a:rPr sz="1900"/>
            </a:b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а коленете да са на нивото на бедр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блегалката да приляга към извивката на гърба - изправена стойка на тялото</a:t>
            </a:r>
            <a:r>
              <a:rPr b="0" lang="bg-BG" sz="19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cc9900"/>
                </a:solidFill>
                <a:latin typeface="Arial"/>
              </a:rPr>
              <a:t>ДОПЪЛНИТЕЛНИ ВЪЗМОЖНОСТИ:</a:t>
            </a:r>
            <a:r>
              <a:rPr b="0" lang="bg-BG" sz="19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наличие на подлакътниц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промяна на височината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мобилност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накланяне на седалката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поне 5 градуса напред и 10  градуса назад</a:t>
            </a: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808" t="0" r="13890" b="0"/>
          <a:stretch/>
        </p:blipFill>
        <p:spPr>
          <a:xfrm>
            <a:off x="826920" y="1989000"/>
            <a:ext cx="279576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БЮРОТО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2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Възможност за промяна на височината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100"/>
            </a:b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като най-точната се определя, когато ходилата на краката са стъпили на под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личие на специална плоскост за клавиатура</a:t>
            </a:r>
            <a:br>
              <a:rPr sz="2100"/>
            </a:b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ръцете трябва да са успоредни на под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личие на свободна работна площ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за разполагане на допълнителни устройства и материали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345200" cy="3400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МОНИТОРЪТ</a:t>
            </a:r>
            <a:r>
              <a:rPr b="1" lang="bg-BG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5472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Горният край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– под нивото на очит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оставя се на поставка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или върху бюрото  точно срещу потребителя</a:t>
            </a:r>
            <a:br>
              <a:rPr sz="2200"/>
            </a:b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на разстояние 46-76 см.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Главата на потребителя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не трябва да се наклонява повече от 15 градус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розорците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трябва да са зад или вдясно от монитор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9900"/>
                </a:solidFill>
                <a:latin typeface="Arial"/>
              </a:rPr>
              <a:t>ОСНОВНИ ВЪЗМОЖНОСТИ</a:t>
            </a: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а създава чувство на удоб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промяна на системните настрой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въртене и промяна на височина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9811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КЛАВИАТУРАТ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Поставя се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пред монитора или на плоскост под бюрото - 64-76 см от под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Крачета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за вертикално разположение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намаляват ъгъла между китките и клавиатура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Позицията на дланите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не трябва да се изменя повече от 10 градуса нагоре и надол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Специална подложка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за намаляване на умората в китки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9900"/>
                </a:solidFill>
                <a:latin typeface="Arial"/>
              </a:rPr>
              <a:t>Висока чувствителност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при натискане на клавишите и затова не трябва да се прилага сила и груб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МИШКАТ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568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равилният захват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гарантира стабилност при работа и отсъствие на напрежение, предизвикващо ум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Поставена близко до клавиатурата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вдясно (или вляво) върху качествена подлож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довно трябва </a:t>
            </a: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да се почиства топчето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и подложката на мишката, за да не се затруднява позиционирането на показале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c9900"/>
                </a:solidFill>
                <a:latin typeface="Arial"/>
              </a:rPr>
              <a:t>Не трябва да се прилага грубост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и активиране на бутоните и движението по подложка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cc9900"/>
                </a:solidFill>
                <a:latin typeface="Arial"/>
              </a:rPr>
              <a:t>ОСВЕТЛЕНИЕТО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9280" y="2060640"/>
            <a:ext cx="4105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Съчетаването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на изкуствено и естествено осветление трябва да се избяг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Луминисцентното осветление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е за предпочитане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(като изкуствено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зползването на </a:t>
            </a:r>
            <a:r>
              <a:rPr b="0" lang="bg-BG" sz="2100" spc="-1" strike="noStrike">
                <a:solidFill>
                  <a:srgbClr val="cc9900"/>
                </a:solidFill>
                <a:latin typeface="Arial"/>
              </a:rPr>
              <a:t>настолни лампи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е препоръчително, ако се налага смесване на осветлениет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2692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4-10-15T00:00:14Z</dcterms:created>
  <dc:creator>1</dc:creator>
  <dc:description/>
  <dc:language>en-US</dc:language>
  <cp:lastModifiedBy>Lusi</cp:lastModifiedBy>
  <dcterms:modified xsi:type="dcterms:W3CDTF">2006-08-17T18:53:49Z</dcterms:modified>
  <cp:revision>33</cp:revision>
  <dc:subject/>
  <dc:title> ЗДРАВНИ, ПРАВНИ И ЕТИЧНИ  НОРМИ ПРИ РАБОТА С ИНФОРМАЦИОННИТЕХНОЛОГИИ</dc:title>
</cp:coreProperties>
</file>