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1b60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F818-B224-42EC-AB56-85D3F5719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993366"/>
                </a:solidFill>
                <a:latin typeface="Times New Roman"/>
              </a:rPr>
              <a:t>Много потребители прекарват продължително време пред компютъра, вследствие на което се налага съсредоточаване на вниманието към опазването на здравето на човека и прилагането на определени здравни норми с цел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993366"/>
                </a:solidFill>
                <a:latin typeface="Times New Roman"/>
              </a:rPr>
              <a:t>- намаляване на умора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993366"/>
                </a:solidFill>
                <a:latin typeface="Times New Roman"/>
              </a:rPr>
              <a:t>- намаляване на  рисковите повтарящи се дей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993366"/>
                </a:solidFill>
                <a:latin typeface="Times New Roman"/>
              </a:rPr>
              <a:t>- преодоляване опасностите от възникването на различни заболявания - ставни, раменни, шийни, очни и др.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993366"/>
                </a:solidFill>
                <a:latin typeface="Times New Roman"/>
              </a:rPr>
              <a:t>Прилагането на основните здравни норми в ежедневието води до повишаване на работоспособност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993366"/>
                </a:solidFill>
                <a:latin typeface="Times New Roman"/>
              </a:rPr>
              <a:t>Както за всяка професия, и при продължителна работа с компютър са разработени </a:t>
            </a:r>
            <a:r>
              <a:rPr b="1" lang="bg-BG" sz="1200" spc="-1" strike="noStrike">
                <a:solidFill>
                  <a:srgbClr val="993366"/>
                </a:solidFill>
                <a:latin typeface="Times New Roman"/>
              </a:rPr>
              <a:t>ергономични принципи</a:t>
            </a:r>
            <a:r>
              <a:rPr b="0" lang="bg-BG" sz="1200" spc="-1" strike="noStrike">
                <a:solidFill>
                  <a:srgbClr val="993366"/>
                </a:solidFill>
                <a:latin typeface="Times New Roman"/>
              </a:rPr>
              <a:t> </a:t>
            </a:r>
            <a:r>
              <a:rPr b="1" lang="bg-BG" sz="1200" spc="-1" strike="noStrike">
                <a:solidFill>
                  <a:srgbClr val="993366"/>
                </a:solidFill>
                <a:latin typeface="Times New Roman"/>
              </a:rPr>
              <a:t>и препоръки</a:t>
            </a:r>
            <a:r>
              <a:rPr b="0" lang="bg-BG" sz="1200" spc="-1" strike="noStrike">
                <a:solidFill>
                  <a:srgbClr val="993366"/>
                </a:solidFill>
                <a:latin typeface="Times New Roman"/>
              </a:rPr>
              <a:t> за осигуряване на удобно работно място: стол, бюро, работна поза /40 мин. активна работа и 15 мин. почивка/, монитор, осветление, клавиатура, мишка, както и допълнителни устройства за създаване на комфорт в офи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Най-важното условие което трябва да се спазва, за да имате добър образ на монитора е - той да бъде поставен правилно и да бъде добре почистен. Текстът на екрана трябва да се чете лесно, а това се установява чрез намаляване на отблясъците /със защитен филтър/ и с подходящи системни настройк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- големина и цвят на текс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-  намалена яркос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- увеличен контраст на изображениет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- екранът не трябва да треп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- използването на софтуер с лек интерфейс, така че иконите, менютата и командите да са лесно различи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Клавиатурата е едно от най-често използването устройства при работа с компютър. Разполага с достатъчно дълъг кабел, за да мести с цел удобство при рабо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Трябва да се пази от разливане на течности около и върху нея, поради възможности от повре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</a:rPr>
              <a:t>Мишката е също е едно от най-често използваните устройства за работа с графичен потребителски интерфейс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</a:rPr>
              <a:t>Правилния захват е показан схематично на страница 52 в учебника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</a:rPr>
              <a:t>Основния управляващ бутон е левият, а ако потребителят е левичар, то мястото на мишката се сменя / отляво на клавиатурата/ и съответно се променя предназначението на десния бутон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</a:rPr>
              <a:t>Предпочитат се мишки със скролер / движещо се топче върху самата мишка/, който създава удобство при работа в Интернет и изобщо за предвижване по документи с голямо съдържание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Ако се работи нощно време - да не се разчита само на светлината от монитора, а задължително да има допълнително осветл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FF53-DE44-44C4-965F-7533D7694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3FC1-8203-46C3-A573-A69A7171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4D26-D538-4EC3-AEC9-AC6B072BA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1861-34D5-4364-AB33-013E6D3AC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8806-7B51-43B4-814D-B357D2EC4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244B-172E-4BC3-AF6C-E6AF998B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BF43-EF6D-4615-BAEB-BB5D6327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711E-8450-4C67-A432-7F9318EF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966B-ECAE-49D6-AFD3-E645A526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F3DD-AA96-4FB4-A711-D323E90B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3FA9-1D2A-4B8E-9CA0-3F4EF10C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5F78-8C73-40CD-803A-992BE774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CD0C-597A-4AAB-9BCC-17E6C3C4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B854-59A6-4A5B-B4D6-5E62C005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F333-542C-4807-98DB-87D94566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0819-6973-484A-B56E-65D2FA61F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8492-75E6-4552-A767-6148E75B5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445A-E210-41DF-A5A1-670B4FFB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C313-7694-4CEA-B258-45F7836D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B749-D29A-4ECA-B6A0-190E92F2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CA37-5E8D-4E46-97DD-6AE50988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611E-5742-463A-908D-339CB524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A899-7AA1-41DE-B76C-FDBD234B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FAF8-BB36-46D2-ABFC-86E2F4DB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735A-BCEB-4416-8999-0604A29D1B9B}" type="slidenum">
              <a:rPr b="0" lang="bg-BG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93D4-E108-425A-8DA1-40E8C979E087}" type="slidenum">
              <a:rPr b="0" lang="bg-BG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280" y="907920"/>
            <a:ext cx="807732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1b60f"/>
                </a:solidFill>
                <a:latin typeface="Arial"/>
              </a:rPr>
              <a:t>ЗДРАВНИ</a:t>
            </a:r>
            <a:r>
              <a:rPr b="1" lang="en-US" sz="4400" spc="-1" strike="noStrike">
                <a:solidFill>
                  <a:srgbClr val="f1b60f"/>
                </a:solidFill>
                <a:latin typeface="Arial"/>
              </a:rPr>
              <a:t> </a:t>
            </a:r>
            <a:r>
              <a:rPr b="1" lang="bg-BG" sz="4400" spc="-1" strike="noStrike">
                <a:solidFill>
                  <a:srgbClr val="f1b60f"/>
                </a:solidFill>
                <a:latin typeface="Arial"/>
              </a:rPr>
              <a:t>НОРМИ </a:t>
            </a:r>
            <a:br>
              <a:rPr sz="4400"/>
            </a:br>
            <a:r>
              <a:rPr b="1" lang="bg-BG" sz="4400" spc="-1" strike="noStrike">
                <a:solidFill>
                  <a:srgbClr val="f1b60f"/>
                </a:solidFill>
                <a:latin typeface="Arial"/>
              </a:rPr>
              <a:t>ПРИ РАБОТА С КОМПЮТЪР</a:t>
            </a:r>
            <a:endParaRPr b="0" lang="en-US" sz="44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9144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843280" y="2708280"/>
            <a:ext cx="3672000" cy="2936880"/>
          </a:xfrm>
          <a:prstGeom prst="rect">
            <a:avLst/>
          </a:prstGeom>
          <a:ln w="0">
            <a:noFill/>
          </a:ln>
        </p:spPr>
      </p:pic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2843280" y="5877000"/>
            <a:ext cx="3673440" cy="720720"/>
          </a:xfrm>
          <a:custGeom>
            <a:avLst/>
            <a:gdLst>
              <a:gd name="textAreaLeft" fmla="*/ 46440 w 3673440"/>
              <a:gd name="textAreaRight" fmla="*/ 3627000 w 36734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10049" h="21600">
                <a:moveTo>
                  <a:pt x="0" y="0"/>
                </a:moveTo>
                <a:lnTo>
                  <a:pt x="110049" y="0"/>
                </a:lnTo>
                <a:lnTo>
                  <a:pt x="110049" y="21600"/>
                </a:lnTo>
                <a:lnTo>
                  <a:pt x="0" y="21600"/>
                </a:lnTo>
                <a:close/>
              </a:path>
              <a:path fill="lightenLess" w="110049" h="21600">
                <a:moveTo>
                  <a:pt x="0" y="0"/>
                </a:moveTo>
                <a:lnTo>
                  <a:pt x="110049" y="0"/>
                </a:lnTo>
                <a:lnTo>
                  <a:pt x="108649" y="1400"/>
                </a:lnTo>
                <a:lnTo>
                  <a:pt x="1400" y="1400"/>
                </a:lnTo>
                <a:close/>
              </a:path>
              <a:path fill="darken" w="110049" h="21600">
                <a:moveTo>
                  <a:pt x="110049" y="0"/>
                </a:moveTo>
                <a:lnTo>
                  <a:pt x="110049" y="21600"/>
                </a:lnTo>
                <a:lnTo>
                  <a:pt x="108649" y="20200"/>
                </a:lnTo>
                <a:lnTo>
                  <a:pt x="108649" y="1400"/>
                </a:lnTo>
                <a:close/>
              </a:path>
              <a:path fill="darkenLess" w="110049" h="21600">
                <a:moveTo>
                  <a:pt x="1100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8649" y="20200"/>
                </a:lnTo>
                <a:close/>
              </a:path>
              <a:path fill="lighten" w="1100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400" spc="-1" strike="noStrike">
                <a:solidFill>
                  <a:srgbClr val="000000"/>
                </a:solidFill>
                <a:latin typeface="Arial"/>
              </a:rPr>
              <a:t>НАПРЕД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1b60f"/>
                </a:solidFill>
                <a:latin typeface="Arial"/>
              </a:rPr>
              <a:t>Изберете информация за: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1042920" y="2133720"/>
            <a:ext cx="2665440" cy="863640"/>
          </a:xfrm>
          <a:custGeom>
            <a:avLst/>
            <a:gdLst>
              <a:gd name="textAreaLeft" fmla="*/ 55800 w 2665440"/>
              <a:gd name="textAreaRight" fmla="*/ 2609640 w 26654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66645" h="21600">
                <a:moveTo>
                  <a:pt x="0" y="0"/>
                </a:moveTo>
                <a:lnTo>
                  <a:pt x="66645" y="0"/>
                </a:lnTo>
                <a:lnTo>
                  <a:pt x="66645" y="21600"/>
                </a:lnTo>
                <a:lnTo>
                  <a:pt x="0" y="21600"/>
                </a:lnTo>
                <a:close/>
              </a:path>
              <a:path fill="lightenLess" w="66645" h="21600">
                <a:moveTo>
                  <a:pt x="0" y="0"/>
                </a:moveTo>
                <a:lnTo>
                  <a:pt x="66645" y="0"/>
                </a:lnTo>
                <a:lnTo>
                  <a:pt x="65245" y="1400"/>
                </a:lnTo>
                <a:lnTo>
                  <a:pt x="1400" y="1400"/>
                </a:lnTo>
                <a:close/>
              </a:path>
              <a:path fill="darken" w="66645" h="21600">
                <a:moveTo>
                  <a:pt x="66645" y="0"/>
                </a:moveTo>
                <a:lnTo>
                  <a:pt x="66645" y="21600"/>
                </a:lnTo>
                <a:lnTo>
                  <a:pt x="65245" y="20200"/>
                </a:lnTo>
                <a:lnTo>
                  <a:pt x="65245" y="1400"/>
                </a:lnTo>
                <a:close/>
              </a:path>
              <a:path fill="darkenLess" w="66645" h="21600">
                <a:moveTo>
                  <a:pt x="666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245" y="20200"/>
                </a:lnTo>
                <a:close/>
              </a:path>
              <a:path fill="lighten" w="666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400" spc="-1" strike="noStrike">
                <a:solidFill>
                  <a:srgbClr val="000000"/>
                </a:solidFill>
                <a:latin typeface="Arial"/>
              </a:rPr>
              <a:t>СТОЛ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1042920" y="3573360"/>
            <a:ext cx="2665440" cy="863640"/>
          </a:xfrm>
          <a:custGeom>
            <a:avLst/>
            <a:gdLst>
              <a:gd name="textAreaLeft" fmla="*/ 55800 w 2665440"/>
              <a:gd name="textAreaRight" fmla="*/ 2609640 w 26654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66645" h="21600">
                <a:moveTo>
                  <a:pt x="0" y="0"/>
                </a:moveTo>
                <a:lnTo>
                  <a:pt x="66645" y="0"/>
                </a:lnTo>
                <a:lnTo>
                  <a:pt x="66645" y="21600"/>
                </a:lnTo>
                <a:lnTo>
                  <a:pt x="0" y="21600"/>
                </a:lnTo>
                <a:close/>
              </a:path>
              <a:path fill="lightenLess" w="66645" h="21600">
                <a:moveTo>
                  <a:pt x="0" y="0"/>
                </a:moveTo>
                <a:lnTo>
                  <a:pt x="66645" y="0"/>
                </a:lnTo>
                <a:lnTo>
                  <a:pt x="65245" y="1400"/>
                </a:lnTo>
                <a:lnTo>
                  <a:pt x="1400" y="1400"/>
                </a:lnTo>
                <a:close/>
              </a:path>
              <a:path fill="darken" w="66645" h="21600">
                <a:moveTo>
                  <a:pt x="66645" y="0"/>
                </a:moveTo>
                <a:lnTo>
                  <a:pt x="66645" y="21600"/>
                </a:lnTo>
                <a:lnTo>
                  <a:pt x="65245" y="20200"/>
                </a:lnTo>
                <a:lnTo>
                  <a:pt x="65245" y="1400"/>
                </a:lnTo>
                <a:close/>
              </a:path>
              <a:path fill="darkenLess" w="66645" h="21600">
                <a:moveTo>
                  <a:pt x="666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245" y="20200"/>
                </a:lnTo>
                <a:close/>
              </a:path>
              <a:path fill="lighten" w="666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400" spc="-1" strike="noStrike">
                <a:solidFill>
                  <a:srgbClr val="000000"/>
                </a:solidFill>
                <a:latin typeface="Arial"/>
              </a:rPr>
              <a:t>БЮРО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1042920" y="5013360"/>
            <a:ext cx="2665440" cy="865080"/>
          </a:xfrm>
          <a:custGeom>
            <a:avLst/>
            <a:gdLst>
              <a:gd name="textAreaLeft" fmla="*/ 55800 w 2665440"/>
              <a:gd name="textAreaRight" fmla="*/ 2609640 w 266544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66534" h="21600">
                <a:moveTo>
                  <a:pt x="0" y="0"/>
                </a:moveTo>
                <a:lnTo>
                  <a:pt x="66534" y="0"/>
                </a:lnTo>
                <a:lnTo>
                  <a:pt x="66534" y="21600"/>
                </a:lnTo>
                <a:lnTo>
                  <a:pt x="0" y="21600"/>
                </a:lnTo>
                <a:close/>
              </a:path>
              <a:path fill="lightenLess" w="66534" h="21600">
                <a:moveTo>
                  <a:pt x="0" y="0"/>
                </a:moveTo>
                <a:lnTo>
                  <a:pt x="66534" y="0"/>
                </a:lnTo>
                <a:lnTo>
                  <a:pt x="65134" y="1400"/>
                </a:lnTo>
                <a:lnTo>
                  <a:pt x="1400" y="1400"/>
                </a:lnTo>
                <a:close/>
              </a:path>
              <a:path fill="darken" w="66534" h="21600">
                <a:moveTo>
                  <a:pt x="66534" y="0"/>
                </a:moveTo>
                <a:lnTo>
                  <a:pt x="66534" y="21600"/>
                </a:lnTo>
                <a:lnTo>
                  <a:pt x="65134" y="20200"/>
                </a:lnTo>
                <a:lnTo>
                  <a:pt x="65134" y="1400"/>
                </a:lnTo>
                <a:close/>
              </a:path>
              <a:path fill="darkenLess" w="66534" h="21600">
                <a:moveTo>
                  <a:pt x="66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134" y="20200"/>
                </a:lnTo>
                <a:close/>
              </a:path>
              <a:path fill="lighten" w="66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400" spc="-1" strike="noStrike">
                <a:solidFill>
                  <a:srgbClr val="000000"/>
                </a:solidFill>
                <a:latin typeface="Arial"/>
              </a:rPr>
              <a:t>МОНИТОР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5076720" y="2133720"/>
            <a:ext cx="2665440" cy="863640"/>
          </a:xfrm>
          <a:custGeom>
            <a:avLst/>
            <a:gdLst>
              <a:gd name="textAreaLeft" fmla="*/ 55800 w 2665440"/>
              <a:gd name="textAreaRight" fmla="*/ 2609640 w 26654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66645" h="21600">
                <a:moveTo>
                  <a:pt x="0" y="0"/>
                </a:moveTo>
                <a:lnTo>
                  <a:pt x="66645" y="0"/>
                </a:lnTo>
                <a:lnTo>
                  <a:pt x="66645" y="21600"/>
                </a:lnTo>
                <a:lnTo>
                  <a:pt x="0" y="21600"/>
                </a:lnTo>
                <a:close/>
              </a:path>
              <a:path fill="lightenLess" w="66645" h="21600">
                <a:moveTo>
                  <a:pt x="0" y="0"/>
                </a:moveTo>
                <a:lnTo>
                  <a:pt x="66645" y="0"/>
                </a:lnTo>
                <a:lnTo>
                  <a:pt x="65245" y="1400"/>
                </a:lnTo>
                <a:lnTo>
                  <a:pt x="1400" y="1400"/>
                </a:lnTo>
                <a:close/>
              </a:path>
              <a:path fill="darken" w="66645" h="21600">
                <a:moveTo>
                  <a:pt x="66645" y="0"/>
                </a:moveTo>
                <a:lnTo>
                  <a:pt x="66645" y="21600"/>
                </a:lnTo>
                <a:lnTo>
                  <a:pt x="65245" y="20200"/>
                </a:lnTo>
                <a:lnTo>
                  <a:pt x="65245" y="1400"/>
                </a:lnTo>
                <a:close/>
              </a:path>
              <a:path fill="darkenLess" w="66645" h="21600">
                <a:moveTo>
                  <a:pt x="666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245" y="20200"/>
                </a:lnTo>
                <a:close/>
              </a:path>
              <a:path fill="lighten" w="666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Arial"/>
              </a:rPr>
              <a:t>КЛАВИАТУРА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5076720" y="3573360"/>
            <a:ext cx="2665440" cy="863640"/>
          </a:xfrm>
          <a:custGeom>
            <a:avLst/>
            <a:gdLst>
              <a:gd name="textAreaLeft" fmla="*/ 55800 w 2665440"/>
              <a:gd name="textAreaRight" fmla="*/ 2609640 w 26654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66645" h="21600">
                <a:moveTo>
                  <a:pt x="0" y="0"/>
                </a:moveTo>
                <a:lnTo>
                  <a:pt x="66645" y="0"/>
                </a:lnTo>
                <a:lnTo>
                  <a:pt x="66645" y="21600"/>
                </a:lnTo>
                <a:lnTo>
                  <a:pt x="0" y="21600"/>
                </a:lnTo>
                <a:close/>
              </a:path>
              <a:path fill="lightenLess" w="66645" h="21600">
                <a:moveTo>
                  <a:pt x="0" y="0"/>
                </a:moveTo>
                <a:lnTo>
                  <a:pt x="66645" y="0"/>
                </a:lnTo>
                <a:lnTo>
                  <a:pt x="65245" y="1400"/>
                </a:lnTo>
                <a:lnTo>
                  <a:pt x="1400" y="1400"/>
                </a:lnTo>
                <a:close/>
              </a:path>
              <a:path fill="darken" w="66645" h="21600">
                <a:moveTo>
                  <a:pt x="66645" y="0"/>
                </a:moveTo>
                <a:lnTo>
                  <a:pt x="66645" y="21600"/>
                </a:lnTo>
                <a:lnTo>
                  <a:pt x="65245" y="20200"/>
                </a:lnTo>
                <a:lnTo>
                  <a:pt x="65245" y="1400"/>
                </a:lnTo>
                <a:close/>
              </a:path>
              <a:path fill="darkenLess" w="66645" h="21600">
                <a:moveTo>
                  <a:pt x="666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245" y="20200"/>
                </a:lnTo>
                <a:close/>
              </a:path>
              <a:path fill="lighten" w="666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400" spc="-1" strike="noStrike">
                <a:solidFill>
                  <a:srgbClr val="000000"/>
                </a:solidFill>
                <a:latin typeface="Arial"/>
              </a:rPr>
              <a:t>МИШКА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>
            <a:hlinkClick r:id="rId6" action="ppaction://hlinksldjump"/>
          </p:cNvPr>
          <p:cNvSpPr/>
          <p:nvPr/>
        </p:nvSpPr>
        <p:spPr>
          <a:xfrm>
            <a:off x="5076720" y="5013360"/>
            <a:ext cx="2665440" cy="863640"/>
          </a:xfrm>
          <a:custGeom>
            <a:avLst/>
            <a:gdLst>
              <a:gd name="textAreaLeft" fmla="*/ 55800 w 2665440"/>
              <a:gd name="textAreaRight" fmla="*/ 2609640 w 26654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66645" h="21600">
                <a:moveTo>
                  <a:pt x="0" y="0"/>
                </a:moveTo>
                <a:lnTo>
                  <a:pt x="66645" y="0"/>
                </a:lnTo>
                <a:lnTo>
                  <a:pt x="66645" y="21600"/>
                </a:lnTo>
                <a:lnTo>
                  <a:pt x="0" y="21600"/>
                </a:lnTo>
                <a:close/>
              </a:path>
              <a:path fill="lightenLess" w="66645" h="21600">
                <a:moveTo>
                  <a:pt x="0" y="0"/>
                </a:moveTo>
                <a:lnTo>
                  <a:pt x="66645" y="0"/>
                </a:lnTo>
                <a:lnTo>
                  <a:pt x="65245" y="1400"/>
                </a:lnTo>
                <a:lnTo>
                  <a:pt x="1400" y="1400"/>
                </a:lnTo>
                <a:close/>
              </a:path>
              <a:path fill="darken" w="66645" h="21600">
                <a:moveTo>
                  <a:pt x="66645" y="0"/>
                </a:moveTo>
                <a:lnTo>
                  <a:pt x="66645" y="21600"/>
                </a:lnTo>
                <a:lnTo>
                  <a:pt x="65245" y="20200"/>
                </a:lnTo>
                <a:lnTo>
                  <a:pt x="65245" y="1400"/>
                </a:lnTo>
                <a:close/>
              </a:path>
              <a:path fill="darkenLess" w="66645" h="21600">
                <a:moveTo>
                  <a:pt x="666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245" y="20200"/>
                </a:lnTo>
                <a:close/>
              </a:path>
              <a:path fill="lighten" w="666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ОСВЕТЛЕНИ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200" spc="-1" strike="noStrike">
                <a:solidFill>
                  <a:srgbClr val="cc9900"/>
                </a:solidFill>
                <a:latin typeface="Arial"/>
              </a:rPr>
              <a:t>СТОЛЪТ</a:t>
            </a:r>
            <a:r>
              <a:rPr b="0" lang="bg-BG" sz="4200" spc="-1" strike="noStrike">
                <a:solidFill>
                  <a:srgbClr val="f1b60f"/>
                </a:solidFill>
                <a:latin typeface="Arial"/>
              </a:rPr>
              <a:t> - осигурява удобна стойка пред компютъра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95280" y="2133720"/>
            <a:ext cx="51483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5 колелца за стабилна основа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краката да са стъпили на земята, </a:t>
            </a:r>
            <a:br>
              <a:rPr sz="1900"/>
            </a:b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а коленете да са на нивото на бедрат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облегалката да приляга към извивката на гърба - изправена стойка на тялото</a:t>
            </a:r>
            <a:r>
              <a:rPr b="0" lang="bg-BG" sz="1900" spc="-1" strike="noStrike">
                <a:solidFill>
                  <a:srgbClr val="cc99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cc9900"/>
                </a:solidFill>
                <a:latin typeface="Arial"/>
              </a:rPr>
              <a:t>ДОПЪЛНИТЕЛНИ ВЪЗМОЖНОСТИ:</a:t>
            </a:r>
            <a:r>
              <a:rPr b="0" lang="bg-BG" sz="1900" spc="-1" strike="noStrike">
                <a:solidFill>
                  <a:srgbClr val="cc99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наличие на подлакътници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промяна на височината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мобилност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накланяне на седалката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bg-BG" sz="1400" spc="-1" strike="noStrike">
                <a:solidFill>
                  <a:srgbClr val="ffffff"/>
                </a:solidFill>
                <a:latin typeface="Arial"/>
              </a:rPr>
              <a:t>поне 5 градуса напред и 10  градуса назад</a:t>
            </a:r>
            <a:r>
              <a:rPr b="0" lang="bg-BG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16808" t="0" r="13890" b="0"/>
          <a:stretch/>
        </p:blipFill>
        <p:spPr>
          <a:xfrm>
            <a:off x="826920" y="1989000"/>
            <a:ext cx="2795760" cy="4032360"/>
          </a:xfrm>
          <a:prstGeom prst="rect">
            <a:avLst/>
          </a:prstGeom>
          <a:ln w="0">
            <a:noFill/>
          </a:ln>
        </p:spPr>
      </p:pic>
      <p:sp>
        <p:nvSpPr>
          <p:cNvPr id="109" name="">
            <a:hlinkClick r:id="" action="ppaction://hlinkshowjump?jump=previousslide"/>
          </p:cNvPr>
          <p:cNvSpPr/>
          <p:nvPr/>
        </p:nvSpPr>
        <p:spPr>
          <a:xfrm>
            <a:off x="826920" y="6165720"/>
            <a:ext cx="540000" cy="54000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457200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10807" y="3837"/>
                </a:moveTo>
                <a:lnTo>
                  <a:pt x="13383" y="6448"/>
                </a:ln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lnTo>
                  <a:pt x="17770" y="10800"/>
                </a:lnTo>
                <a:lnTo>
                  <a:pt x="16116" y="10800"/>
                </a:lnTo>
                <a:lnTo>
                  <a:pt x="16116" y="17989"/>
                </a:lnTo>
                <a:lnTo>
                  <a:pt x="5497" y="17989"/>
                </a:lnTo>
                <a:lnTo>
                  <a:pt x="5497" y="10800"/>
                </a:lnTo>
                <a:lnTo>
                  <a:pt x="3844" y="10800"/>
                </a:lnTo>
                <a:close/>
              </a:path>
              <a:path fill="darkenLess" w="21613" h="21600">
                <a:moveTo>
                  <a:pt x="13383" y="6448"/>
                </a:move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close/>
              </a:path>
              <a:path fill="darkenLess" w="21613" h="21600">
                <a:moveTo>
                  <a:pt x="9884" y="14299"/>
                </a:moveTo>
                <a:lnTo>
                  <a:pt x="11729" y="14299"/>
                </a:lnTo>
                <a:lnTo>
                  <a:pt x="11729" y="17989"/>
                </a:lnTo>
                <a:lnTo>
                  <a:pt x="16116" y="17989"/>
                </a:lnTo>
                <a:lnTo>
                  <a:pt x="16116" y="10800"/>
                </a:lnTo>
                <a:lnTo>
                  <a:pt x="5497" y="10800"/>
                </a:lnTo>
                <a:lnTo>
                  <a:pt x="5497" y="17989"/>
                </a:lnTo>
                <a:lnTo>
                  <a:pt x="9884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200" spc="-1" strike="noStrike">
                <a:solidFill>
                  <a:srgbClr val="cc9900"/>
                </a:solidFill>
                <a:latin typeface="Arial"/>
              </a:rPr>
              <a:t>БЮРОТО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03236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cc9900"/>
                </a:solidFill>
                <a:latin typeface="Arial"/>
              </a:rPr>
              <a:t>Възможност за промяна на височината</a:t>
            </a: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100"/>
            </a:b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(като най-точната се определя, когато ходилата на краката са стъпили на пода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cc9900"/>
                </a:solidFill>
                <a:latin typeface="Arial"/>
              </a:rPr>
              <a:t>Наличие на специална плоскост за клавиатура</a:t>
            </a:r>
            <a:br>
              <a:rPr sz="2100"/>
            </a:b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(ръцете трябва да са успоредни на пода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cc9900"/>
                </a:solidFill>
                <a:latin typeface="Arial"/>
              </a:rPr>
              <a:t>Наличие на свободна работна площ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(за разполагане на допълнителни устройства и материали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43280" y="2205000"/>
            <a:ext cx="4345200" cy="3400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826920" y="6165720"/>
            <a:ext cx="540000" cy="54000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457200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10807" y="3837"/>
                </a:moveTo>
                <a:lnTo>
                  <a:pt x="13383" y="6448"/>
                </a:ln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lnTo>
                  <a:pt x="17770" y="10800"/>
                </a:lnTo>
                <a:lnTo>
                  <a:pt x="16116" y="10800"/>
                </a:lnTo>
                <a:lnTo>
                  <a:pt x="16116" y="17989"/>
                </a:lnTo>
                <a:lnTo>
                  <a:pt x="5497" y="17989"/>
                </a:lnTo>
                <a:lnTo>
                  <a:pt x="5497" y="10800"/>
                </a:lnTo>
                <a:lnTo>
                  <a:pt x="3844" y="10800"/>
                </a:lnTo>
                <a:close/>
              </a:path>
              <a:path fill="darkenLess" w="21613" h="21600">
                <a:moveTo>
                  <a:pt x="13383" y="6448"/>
                </a:move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close/>
              </a:path>
              <a:path fill="darkenLess" w="21613" h="21600">
                <a:moveTo>
                  <a:pt x="9884" y="14299"/>
                </a:moveTo>
                <a:lnTo>
                  <a:pt x="11729" y="14299"/>
                </a:lnTo>
                <a:lnTo>
                  <a:pt x="11729" y="17989"/>
                </a:lnTo>
                <a:lnTo>
                  <a:pt x="16116" y="17989"/>
                </a:lnTo>
                <a:lnTo>
                  <a:pt x="16116" y="10800"/>
                </a:lnTo>
                <a:lnTo>
                  <a:pt x="5497" y="10800"/>
                </a:lnTo>
                <a:lnTo>
                  <a:pt x="5497" y="17989"/>
                </a:lnTo>
                <a:lnTo>
                  <a:pt x="9884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200" spc="-1" strike="noStrike">
                <a:solidFill>
                  <a:srgbClr val="cc9900"/>
                </a:solidFill>
                <a:latin typeface="Arial"/>
              </a:rPr>
              <a:t>МОНИТОРЪТ</a:t>
            </a:r>
            <a:r>
              <a:rPr b="1" lang="bg-BG" sz="4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5472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cc9900"/>
                </a:solidFill>
                <a:latin typeface="Arial"/>
              </a:rPr>
              <a:t>Горният край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 – под нивото на очите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cc9900"/>
                </a:solidFill>
                <a:latin typeface="Arial"/>
              </a:rPr>
              <a:t>Поставя се на поставка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 или върху бюрото  точно срещу потребителя</a:t>
            </a:r>
            <a:br>
              <a:rPr sz="2200"/>
            </a:b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на разстояние 46-76 см.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cc9900"/>
                </a:solidFill>
                <a:latin typeface="Arial"/>
              </a:rPr>
              <a:t>Главата на потребителя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 не трябва да се наклонява повече от 15 градус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cc9900"/>
                </a:solidFill>
                <a:latin typeface="Arial"/>
              </a:rPr>
              <a:t>Прозорците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 трябва да са зад или вдясно от монитора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cc9900"/>
                </a:solidFill>
                <a:latin typeface="Arial"/>
              </a:rPr>
              <a:t>ОСНОВНИ ВЪЗМОЖНОСТИ</a:t>
            </a:r>
            <a:r>
              <a:rPr b="0" lang="bg-BG" sz="2200" spc="-1" strike="noStrike">
                <a:solidFill>
                  <a:srgbClr val="cc99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да създава чувство на удобств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за промяна на системните настройк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за въртене и промяна на височинат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796000" y="2133720"/>
            <a:ext cx="2981160" cy="3744720"/>
          </a:xfrm>
          <a:prstGeom prst="rect">
            <a:avLst/>
          </a:prstGeom>
          <a:ln w="0">
            <a:noFill/>
          </a:ln>
        </p:spPr>
      </p:pic>
      <p:sp>
        <p:nvSpPr>
          <p:cNvPr id="121" name="">
            <a:hlinkClick r:id="" action="ppaction://hlinkshowjump?jump=previousslide"/>
          </p:cNvPr>
          <p:cNvSpPr/>
          <p:nvPr/>
        </p:nvSpPr>
        <p:spPr>
          <a:xfrm>
            <a:off x="826920" y="6165720"/>
            <a:ext cx="540000" cy="54000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457200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10807" y="3837"/>
                </a:moveTo>
                <a:lnTo>
                  <a:pt x="13383" y="6448"/>
                </a:ln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lnTo>
                  <a:pt x="17770" y="10800"/>
                </a:lnTo>
                <a:lnTo>
                  <a:pt x="16116" y="10800"/>
                </a:lnTo>
                <a:lnTo>
                  <a:pt x="16116" y="17989"/>
                </a:lnTo>
                <a:lnTo>
                  <a:pt x="5497" y="17989"/>
                </a:lnTo>
                <a:lnTo>
                  <a:pt x="5497" y="10800"/>
                </a:lnTo>
                <a:lnTo>
                  <a:pt x="3844" y="10800"/>
                </a:lnTo>
                <a:close/>
              </a:path>
              <a:path fill="darkenLess" w="21613" h="21600">
                <a:moveTo>
                  <a:pt x="13383" y="6448"/>
                </a:move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close/>
              </a:path>
              <a:path fill="darkenLess" w="21613" h="21600">
                <a:moveTo>
                  <a:pt x="9884" y="14299"/>
                </a:moveTo>
                <a:lnTo>
                  <a:pt x="11729" y="14299"/>
                </a:lnTo>
                <a:lnTo>
                  <a:pt x="11729" y="17989"/>
                </a:lnTo>
                <a:lnTo>
                  <a:pt x="16116" y="17989"/>
                </a:lnTo>
                <a:lnTo>
                  <a:pt x="16116" y="10800"/>
                </a:lnTo>
                <a:lnTo>
                  <a:pt x="5497" y="10800"/>
                </a:lnTo>
                <a:lnTo>
                  <a:pt x="5497" y="17989"/>
                </a:lnTo>
                <a:lnTo>
                  <a:pt x="9884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200" spc="-1" strike="noStrike">
                <a:solidFill>
                  <a:srgbClr val="cc9900"/>
                </a:solidFill>
                <a:latin typeface="Arial"/>
              </a:rPr>
              <a:t>КЛАВИАТУРАТА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281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cc9900"/>
                </a:solidFill>
                <a:latin typeface="Arial"/>
              </a:rPr>
              <a:t>Поставя се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пред монитора или на плоскост под бюрото - 64-76 см от пода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cc9900"/>
                </a:solidFill>
                <a:latin typeface="Arial"/>
              </a:rPr>
              <a:t>Крачета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за вертикално разположение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(намаляват ъгъла между китките и клавиатурат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cc9900"/>
                </a:solidFill>
                <a:latin typeface="Arial"/>
              </a:rPr>
              <a:t>Позицията на дланите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не трябва да се изменя повече от 10 градуса нагоре и надолу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cc9900"/>
                </a:solidFill>
                <a:latin typeface="Arial"/>
              </a:rPr>
              <a:t>Специална подложка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за намаляване на умората в киткит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cc9900"/>
                </a:solidFill>
                <a:latin typeface="Arial"/>
              </a:rPr>
              <a:t>Висока чувствителност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при натискане на клавишите и затова не трябва да се прилага сила и грубос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previousslide"/>
          </p:cNvPr>
          <p:cNvSpPr/>
          <p:nvPr/>
        </p:nvSpPr>
        <p:spPr>
          <a:xfrm>
            <a:off x="826920" y="6165720"/>
            <a:ext cx="540000" cy="54000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10807" y="3837"/>
                </a:moveTo>
                <a:lnTo>
                  <a:pt x="13383" y="6448"/>
                </a:ln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lnTo>
                  <a:pt x="17770" y="10800"/>
                </a:lnTo>
                <a:lnTo>
                  <a:pt x="16116" y="10800"/>
                </a:lnTo>
                <a:lnTo>
                  <a:pt x="16116" y="17989"/>
                </a:lnTo>
                <a:lnTo>
                  <a:pt x="5497" y="17989"/>
                </a:lnTo>
                <a:lnTo>
                  <a:pt x="5497" y="10800"/>
                </a:lnTo>
                <a:lnTo>
                  <a:pt x="3844" y="10800"/>
                </a:lnTo>
                <a:close/>
              </a:path>
              <a:path fill="darkenLess" w="21613" h="21600">
                <a:moveTo>
                  <a:pt x="13383" y="6448"/>
                </a:move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close/>
              </a:path>
              <a:path fill="darkenLess" w="21613" h="21600">
                <a:moveTo>
                  <a:pt x="9884" y="14299"/>
                </a:moveTo>
                <a:lnTo>
                  <a:pt x="11729" y="14299"/>
                </a:lnTo>
                <a:lnTo>
                  <a:pt x="11729" y="17989"/>
                </a:lnTo>
                <a:lnTo>
                  <a:pt x="16116" y="17989"/>
                </a:lnTo>
                <a:lnTo>
                  <a:pt x="16116" y="10800"/>
                </a:lnTo>
                <a:lnTo>
                  <a:pt x="5497" y="10800"/>
                </a:lnTo>
                <a:lnTo>
                  <a:pt x="5497" y="17989"/>
                </a:lnTo>
                <a:lnTo>
                  <a:pt x="9884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200" spc="-1" strike="noStrike">
                <a:solidFill>
                  <a:srgbClr val="cc9900"/>
                </a:solidFill>
                <a:latin typeface="Arial"/>
              </a:rPr>
              <a:t>МИШКАТА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5688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cc9900"/>
                </a:solidFill>
                <a:latin typeface="Arial"/>
              </a:rPr>
              <a:t>Правилният захват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 гарантира стабилност при работа и отсъствие на напрежение, предизвикващо умор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cc9900"/>
                </a:solidFill>
                <a:latin typeface="Arial"/>
              </a:rPr>
              <a:t>Поставена близко до клавиатурата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 вдясно (или вляво) върху качествена подложк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Редовно трябва </a:t>
            </a:r>
            <a:r>
              <a:rPr b="0" lang="bg-BG" sz="2200" spc="-1" strike="noStrike">
                <a:solidFill>
                  <a:srgbClr val="cc9900"/>
                </a:solidFill>
                <a:latin typeface="Arial"/>
              </a:rPr>
              <a:t>да се почиства топчето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 и подложката на мишката, за да не се затруднява позиционирането на показалец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cc9900"/>
                </a:solidFill>
                <a:latin typeface="Arial"/>
              </a:rPr>
              <a:t>Не трябва да се прилага грубост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 при активиране на бутоните и движението по подложкат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372360" y="2492280"/>
            <a:ext cx="2590560" cy="2590920"/>
          </a:xfrm>
          <a:prstGeom prst="rect">
            <a:avLst/>
          </a:prstGeom>
          <a:ln w="0">
            <a:noFill/>
          </a:ln>
        </p:spPr>
      </p:pic>
      <p:sp>
        <p:nvSpPr>
          <p:cNvPr id="132" name="">
            <a:hlinkClick r:id="" action="ppaction://hlinkshowjump?jump=previousslide"/>
          </p:cNvPr>
          <p:cNvSpPr/>
          <p:nvPr/>
        </p:nvSpPr>
        <p:spPr>
          <a:xfrm>
            <a:off x="826920" y="6165720"/>
            <a:ext cx="540000" cy="54000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10807" y="3837"/>
                </a:moveTo>
                <a:lnTo>
                  <a:pt x="13383" y="6448"/>
                </a:ln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lnTo>
                  <a:pt x="17770" y="10800"/>
                </a:lnTo>
                <a:lnTo>
                  <a:pt x="16116" y="10800"/>
                </a:lnTo>
                <a:lnTo>
                  <a:pt x="16116" y="17989"/>
                </a:lnTo>
                <a:lnTo>
                  <a:pt x="5497" y="17989"/>
                </a:lnTo>
                <a:lnTo>
                  <a:pt x="5497" y="10800"/>
                </a:lnTo>
                <a:lnTo>
                  <a:pt x="3844" y="10800"/>
                </a:lnTo>
                <a:close/>
              </a:path>
              <a:path fill="darkenLess" w="21613" h="21600">
                <a:moveTo>
                  <a:pt x="13383" y="6448"/>
                </a:move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close/>
              </a:path>
              <a:path fill="darkenLess" w="21613" h="21600">
                <a:moveTo>
                  <a:pt x="9884" y="14299"/>
                </a:moveTo>
                <a:lnTo>
                  <a:pt x="11729" y="14299"/>
                </a:lnTo>
                <a:lnTo>
                  <a:pt x="11729" y="17989"/>
                </a:lnTo>
                <a:lnTo>
                  <a:pt x="16116" y="17989"/>
                </a:lnTo>
                <a:lnTo>
                  <a:pt x="16116" y="10800"/>
                </a:lnTo>
                <a:lnTo>
                  <a:pt x="5497" y="10800"/>
                </a:lnTo>
                <a:lnTo>
                  <a:pt x="5497" y="17989"/>
                </a:lnTo>
                <a:lnTo>
                  <a:pt x="9884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200" spc="-1" strike="noStrike">
                <a:solidFill>
                  <a:srgbClr val="cc9900"/>
                </a:solidFill>
                <a:latin typeface="Arial"/>
              </a:rPr>
              <a:t>ОСВЕТЛЕНИЕТО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859280" y="2060640"/>
            <a:ext cx="4105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cc9900"/>
                </a:solidFill>
                <a:latin typeface="Arial"/>
              </a:rPr>
              <a:t>Съчетаването</a:t>
            </a: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 на изкуствено и естествено осветление трябва да се избягв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cc9900"/>
                </a:solidFill>
                <a:latin typeface="Arial"/>
              </a:rPr>
              <a:t>Луминисцентното осветление</a:t>
            </a: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 е за предпочитане </a:t>
            </a: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(като изкуствено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Използването на </a:t>
            </a:r>
            <a:r>
              <a:rPr b="0" lang="bg-BG" sz="2100" spc="-1" strike="noStrike">
                <a:solidFill>
                  <a:srgbClr val="cc9900"/>
                </a:solidFill>
                <a:latin typeface="Arial"/>
              </a:rPr>
              <a:t>настолни лампи</a:t>
            </a: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 е препоръчително, ако се налага смесване на осветлението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3816360" cy="3441600"/>
          </a:xfrm>
          <a:prstGeom prst="rect">
            <a:avLst/>
          </a:prstGeom>
          <a:ln w="0">
            <a:noFill/>
          </a:ln>
        </p:spPr>
      </p:pic>
      <p:sp>
        <p:nvSpPr>
          <p:cNvPr id="138" name="">
            <a:hlinkClick r:id="" action="ppaction://hlinkshowjump?jump=previousslide"/>
          </p:cNvPr>
          <p:cNvSpPr/>
          <p:nvPr/>
        </p:nvSpPr>
        <p:spPr>
          <a:xfrm>
            <a:off x="826920" y="6165720"/>
            <a:ext cx="540000" cy="54000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10807" y="3837"/>
                </a:moveTo>
                <a:lnTo>
                  <a:pt x="13383" y="6448"/>
                </a:ln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lnTo>
                  <a:pt x="17770" y="10800"/>
                </a:lnTo>
                <a:lnTo>
                  <a:pt x="16116" y="10800"/>
                </a:lnTo>
                <a:lnTo>
                  <a:pt x="16116" y="17989"/>
                </a:lnTo>
                <a:lnTo>
                  <a:pt x="5497" y="17989"/>
                </a:lnTo>
                <a:lnTo>
                  <a:pt x="5497" y="10800"/>
                </a:lnTo>
                <a:lnTo>
                  <a:pt x="3844" y="10800"/>
                </a:lnTo>
                <a:close/>
              </a:path>
              <a:path fill="darkenLess" w="21613" h="21600">
                <a:moveTo>
                  <a:pt x="13383" y="6448"/>
                </a:move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close/>
              </a:path>
              <a:path fill="darkenLess" w="21613" h="21600">
                <a:moveTo>
                  <a:pt x="9884" y="14299"/>
                </a:moveTo>
                <a:lnTo>
                  <a:pt x="11729" y="14299"/>
                </a:lnTo>
                <a:lnTo>
                  <a:pt x="11729" y="17989"/>
                </a:lnTo>
                <a:lnTo>
                  <a:pt x="16116" y="17989"/>
                </a:lnTo>
                <a:lnTo>
                  <a:pt x="16116" y="10800"/>
                </a:lnTo>
                <a:lnTo>
                  <a:pt x="5497" y="10800"/>
                </a:lnTo>
                <a:lnTo>
                  <a:pt x="5497" y="17989"/>
                </a:lnTo>
                <a:lnTo>
                  <a:pt x="9884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94-10-15T00:00:14Z</dcterms:created>
  <dc:creator>1</dc:creator>
  <dc:description/>
  <dc:language>en-US</dc:language>
  <cp:lastModifiedBy>Lusi</cp:lastModifiedBy>
  <dcterms:modified xsi:type="dcterms:W3CDTF">2006-08-17T18:53:49Z</dcterms:modified>
  <cp:revision>33</cp:revision>
  <dc:subject/>
  <dc:title> ЗДРАВНИ, ПРАВНИ И ЕТИЧНИ  НОРМИ ПРИ РАБОТА С ИНФОРМАЦИОННИТЕХНОЛОГИИ</dc:title>
</cp:coreProperties>
</file>